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54A-A904-4C3A-A759-2E0A99FC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7F5-0D93-4B06-BA7F-ABCB1483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36C-F7B6-401D-9CD5-56DCF972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B0D-6326-4E6A-B94F-8F00367E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A34-F133-4D42-AA3C-3A3E723E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669-1DBA-4822-8195-BAFE7B8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8BA-63BD-4EC8-BA68-AF2940FE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01C-3020-4A57-9F02-00C8AD34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E61-23E5-4625-9A58-5B4A1BB0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623-7652-40AD-B7D6-DB30153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46C-66AC-4132-B044-B51DDD8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2FC-75DC-4EC6-B60F-1FB12AED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3D7-70DC-46A7-9FBF-30316B025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7:20:55Z</dcterms:created>
  <dc:creator>Grupo Editorial</dc:creator>
  <dc:description/>
  <dc:language>en-US</dc:language>
  <cp:lastModifiedBy>Grupo Editorial</cp:lastModifiedBy>
  <dcterms:modified xsi:type="dcterms:W3CDTF">2001-11-14T17:23:56Z</dcterms:modified>
  <cp:revision>1</cp:revision>
  <dc:subject/>
  <dc:title>Sin título de diapositiva</dc:title>
</cp:coreProperties>
</file>